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E8CC-F7FF-45C5-A431-BF7F3FA51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8BB6-6041-48A1-B615-41B77BF7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9B67-31DD-404B-A206-E2C4B03B5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7726-2F81-4A51-949C-464AD582A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A9C7F-8222-4C04-8602-43FF409A8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AF20D-569C-4420-BDDC-8AB7D9D10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DC4C4-7E42-4873-A81B-F6E6064C6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BF7F7-AFD3-44A5-9145-807271069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81A37-8E6F-43DA-A90A-5C463B8A1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7A766-5D2A-4DB4-AFD7-A9A3A4B16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08809-2F46-41B9-8FE4-9B2A16B5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618D-698E-47F6-BED0-D434C5008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93497-0575-4F88-8BE0-D27A639B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CD26D-68D0-43A9-805A-83C883BC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8ACA7-BCC8-47C9-8C61-C2A1F3809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16613-0418-46E7-AFDC-5A19A6536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01B39-A531-4A43-BD85-4F23119BB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5D593-4358-4AC0-AEA7-E1543969E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840CD-085B-44DF-856F-EF8DB046B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FB9AC-3115-48D1-937E-610FC297B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7C54E-9530-4E7F-B357-2311232A9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BA118-FB90-4FCC-8F5A-73A38B560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1FCC-9C5C-4CB7-992B-F6FE4C4D9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1B8D3-63D2-4B84-8E13-34EF78F8A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29B66-A3E4-4048-8F72-DE870F68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EF37B-CEF5-4B83-84BF-D7F9C2AE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845C3-4575-4798-93C0-2ADD4F6C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81033-4201-4D14-A43E-79F61F3E4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645E2-7D44-4B99-936D-7E24B3C93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7FB66-058C-4473-8356-96F16F82C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BFFD75-1D52-406C-9A55-0F8AEDA9C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9B4EE1-E6C2-4E3A-923C-5BBABF069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36C3B6-682D-4207-9EA8-FD499F327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0622-53B8-4332-A068-5A0D0C932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447266-F352-4AD7-9A9A-A89A3A835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48EF32-F998-4048-BC33-47061571B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38BE05-9751-47E1-9CDC-76CCE9B23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04F499-4401-4FEF-843C-42DAC4E5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2DCA21-B215-4DDC-AA43-DAD66BF9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CB8E0A-3DDD-4F79-9DEB-9B87D8AD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862F9E-A3DA-436E-B1E7-D1118963F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0A1E36-E525-433C-B40B-41D28FB8E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40C641-8CAE-46B8-97AD-15D9B8D7F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84C3A3-D3FF-45D6-A1EB-8C3EF6ED6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384B-0328-441C-A2A3-14763D0CD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A3C11B-EF66-4145-B948-7FAB91429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C9BD8D-0FCD-4C74-8AEE-6FE008055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DFF015-2E1B-4C38-88A5-A1A79F1F5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3787B6-28C7-42F1-902B-E269460B6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0F2E70-CFAB-4C7B-AA66-076E66A17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BDA09A-BE95-428A-B7EE-637DDBB2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A5E27A-772C-4FDA-8E32-12E8925D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E3D9B9-E6E9-44A1-8510-32B081D9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6FFF5B-20EF-4B62-8B20-9DE015ACB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6C25EF-D02F-4081-BC18-ADFA8B506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9385-416F-4DAA-924E-940E266BD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E3C923-0765-43AC-8BCE-72A7E61F4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20539-49EA-4A9B-B469-9FCA8E71F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4BDDC-D76B-4040-B3B6-F1BE2C8AF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7C694-154F-4A36-BE5E-15F9CF057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8BDF6-A572-4D45-8615-EBA7BAF44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AA9B4-4116-4FCC-8843-00464DABB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EEB63-1C10-4B4E-9514-6996BC347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D6187-406C-4CC7-B49F-587095CF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090A3-ADD2-4733-B583-F11E32BB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FFCA2-F80D-4696-8D3F-57F682F8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F418-8944-4031-9C4F-AA59F91A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2F99E-A633-45BC-94C6-7107DF6D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8E5C9F-416C-4E25-B5B6-7A179FA7B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30FC1-46F6-4E54-A7F1-7B893E652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F271-0DCB-4216-8CE8-63C143D4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ABB6-94DA-44FD-B93A-B13E1F0D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07B8D-A460-493A-B49E-434E6C5573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042DB-AF54-4912-B794-0B562098FF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6CF5E-5C49-4969-9FC3-FA1BB7CD12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A304-C78C-45F2-8817-A9F8EF3BAB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5004-1E7F-4D73-AC0A-301E4CF57EB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67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68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5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15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16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dt" idx="16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ftr" idx="17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F0CA0-D722-44FD-8B8F-9C6C9BDD6A0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oogle.com/imgres?imgurl=http://flashnewstoday.com/wp-content/uploads/2010/07/polluted-water.jpg&amp;imgrefurl=http://flashnewstoday.com/index.php/waters-of-polluted-chinese-river-to-reach-russian-border-on-august-4/&amp;usg=__hneDgzLApoKgkG5f5aR_mS5NOzo=&amp;h=340&amp;w=600&amp;sz=81&amp;hl=en&amp;start=8&amp;sig2=F7Vsr7MY-NTDbUZZ1MiwxQ&amp;zoom=1&amp;itbs=1&amp;tbnid=3nFknu0dj6_ZXM:&amp;tbnh=77&amp;tbnw=135&amp;prev=/images%3Fq%3Dpolluted%2Brivers%2Bin%2Brussia%26hl%3Den%26safe%3Dactive%26gbv%3D2%26tbs%3Disch:1&amp;ei=BnoHTcX_BeqynAfynIjgDQ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nvironmen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chael and Jimm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Pollution in Russia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4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 the past, the Soviet Union trained their army without caring about the environ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oxic waste in riv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sticides and heavy metals poisoned soi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il spills happened a lot but they were never cleaned u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adioactive waste in rivers and se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ap water is dirty because it comes from polluted riv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al-burning factories release chemicals into the ai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46160" y="1981080"/>
            <a:ext cx="404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8320" y="1905120"/>
            <a:ext cx="4038480" cy="41907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2971800" cy="24382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380880" y="278856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oal-burning factories in 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3733920" y="304920"/>
            <a:ext cx="4724280" cy="36576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3733920" y="3961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Birds in Russia dying from oil spi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380880" y="3581280"/>
            <a:ext cx="2971800" cy="20574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380880" y="5637240"/>
            <a:ext cx="2895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Abandoned houses on Techa River in Russia, severely contaminated by radioactive was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3581280" y="4495680"/>
            <a:ext cx="3743280" cy="205740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7315200" y="4572000"/>
            <a:ext cx="1447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ctories release chemicals into the air, which is bad for the environ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eaning Efforts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4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ttle money to help with the cleaning effo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gress is sl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46160" y="1981080"/>
            <a:ext cx="404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udents are working on solutions- planted trees, research on household detergents that help polluted riv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ying to clean up Lake Baikal, the world’s most ancient lak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533520" y="3962520"/>
            <a:ext cx="3886200" cy="23619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3809880" cy="259092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457200" y="304740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aikal Seal, the lake’s top predator, could be harmed by polluted w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4343400" y="380880"/>
            <a:ext cx="4286160" cy="35053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4267080" y="3961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ussian workers clean up an oil spill in the Black Se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3"/>
          <a:stretch/>
        </p:blipFill>
        <p:spPr>
          <a:xfrm>
            <a:off x="533520" y="3886200"/>
            <a:ext cx="3581280" cy="25146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4191120" y="5410080"/>
            <a:ext cx="312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Paper mill that has been polluting Lake Baikal for over 40 years is being shut d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Affect on People and Animals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456840" y="1980720"/>
            <a:ext cx="4040280" cy="198756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456840" y="4106520"/>
            <a:ext cx="4040280" cy="198900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46160" y="1981080"/>
            <a:ext cx="404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ople live in environmental wastelands created by past gener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y endangered animals because their habitat is being destroyed, such as blue whales, tigers, snow leopards, and sea ott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4"/>
          <a:stretch/>
        </p:blipFill>
        <p:spPr>
          <a:xfrm>
            <a:off x="457200" y="3886200"/>
            <a:ext cx="4038480" cy="228600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5"/>
          <a:stretch/>
        </p:blipFill>
        <p:spPr>
          <a:xfrm>
            <a:off x="457200" y="1600200"/>
            <a:ext cx="4038480" cy="2209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4:22:49Z</dcterms:created>
  <dc:creator> </dc:creator>
  <dc:description/>
  <dc:language>en-US</dc:language>
  <cp:lastModifiedBy>Jeffrey Zisk</cp:lastModifiedBy>
  <dcterms:modified xsi:type="dcterms:W3CDTF">2010-12-15T21:30:49Z</dcterms:modified>
  <cp:revision>7</cp:revision>
  <dc:subject/>
  <dc:title>Environment</dc:title>
</cp:coreProperties>
</file>